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5AC-60E4-47F6-826A-80387BEF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D5B-041F-4B6B-8B07-E8DEE8E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C01-E912-457F-9CDC-6020E889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A97-282D-4697-BC11-692DA56B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5D4-3FA8-43A0-A640-316E50E1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FEF4-CAAF-4F13-A2AA-331EDA4B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5B6-62EB-4F78-A3FE-3FB573E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6669-E41C-4588-9C01-602CEE8A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645-01A1-473B-B035-D0BAF93E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A51-3B68-4960-A994-D129AB43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79A-C302-4EFE-9D01-E7CEDDA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031-030B-4F93-B4D7-20B368D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66A-0233-4F05-A2EE-FA20556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4BC-1EFC-4394-B800-ABD9CFA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559-3213-4866-9991-52BB9C7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5DC-E560-40E8-96AE-3514012B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F93D-2D17-444D-8ECB-2B4599F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9FD-8BAD-47FD-8536-2D01FDE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9D8-C138-404A-B641-A447185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B30-17D1-4F48-A604-769E8D7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428-E80F-41D2-AE71-ABBEC7A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B9B-ED24-4180-901A-502E78E7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224-D915-4566-BFD9-046DFE9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0CA-82CA-44F1-B9F0-B92E504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1c1101"/>
                </a:gs>
                <a:gs pos="100000">
                  <a:srgbClr val="3d25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d2503"/>
                </a:gs>
                <a:gs pos="100000">
                  <a:srgbClr val="1c11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25A2-F82C-4BD7-8EE0-A8270669F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3d2503"/>
                </a:gs>
                <a:gs pos="100000">
                  <a:srgbClr val="1c11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1c1101"/>
                </a:gs>
                <a:gs pos="100000">
                  <a:srgbClr val="3d25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4B9D-7B4B-42BC-BDBD-9DE640948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The Chocolate Touch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Patrick Skene Cat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9. What did Dr. Cranium say was wrong with Joh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had Chocolatit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ctor wasn’t s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had chicken po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 was gree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0. What lesson did John learn in this story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o much chocolate will give you a stomachach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be nice to your sis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to be greed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t to pick up coins on the sidewal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265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1. What did John find when he ran to the candy store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empty lot with a ‘For Sale’ 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andy store was now a toy st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was a new clerk working at the st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tore didn’t sell chocolate anymo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6845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THE END!!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28195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1. What did John like to eat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cco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8195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2. What did John find as he was walking to Susan’s house one Sunday afternoo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ol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4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3. What discovery did John make as he brushed his teeth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40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late for scho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teeth were choco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oothpaste  turned into choco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 sister took his toothbru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504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81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4. What did Susan want John to do with the coin to prove that it was real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w the teac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something with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it to the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te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5. Why was Miss Plimsole not happy with John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2880" y="1904760"/>
            <a:ext cx="4694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didn’t finish his 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late for cl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giving out chocolate to othe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forgot his 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42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6. How did Susan react when John told her about his pencil turning into chocolate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thought he was telling the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thought it was c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didn’t believe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anted him to turn something into chocolate f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212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81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7. How did the thought of chocolate pie make John feel today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2880" y="2361960"/>
            <a:ext cx="4846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Very hung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ick to his stomac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xcite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51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ng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160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25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4034"/>
                </a:solidFill>
                <a:latin typeface="Times New Roman"/>
              </a:rPr>
              <a:t>8. What happened after John began to play his trumpet?</a:t>
            </a:r>
            <a:endParaRPr b="0" lang="en-US" sz="4400" spc="-1" strike="noStrike">
              <a:solidFill>
                <a:srgbClr val="cc403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n off the stage and toward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n to the bath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hared his chocolate trumpet with the k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te the chocolate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812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57:24Z</dcterms:created>
  <dc:creator>WSSD Teacher iBook</dc:creator>
  <dc:description/>
  <dc:language>en-US</dc:language>
  <cp:lastModifiedBy>WSSD Teacher iBook</cp:lastModifiedBy>
  <dcterms:modified xsi:type="dcterms:W3CDTF">2010-11-09T23:15:25Z</dcterms:modified>
  <cp:revision>13</cp:revision>
  <dc:subject/>
  <dc:title>The Chocolate Touch</dc:title>
</cp:coreProperties>
</file>